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A29-C8D8-4069-AAF4-1AA9D548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E8B-AC69-4689-A358-23783516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F85-006B-49F4-8082-93EEFDC1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017-04E4-4F24-9BE5-4A3E7E70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8CF-FF19-408F-AAD5-F4D5ECB5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99B-29AF-4EA9-9CF6-8F2AA58E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71F-1ED7-41DF-B4E9-08CC202D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35D-75E2-497A-AC61-878EA76D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126-07F0-4749-A75A-74B9017A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507-EE44-4C0F-8FF8-039EA867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8E8-EF66-42A0-892A-2D8B4A09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727-EA77-400D-9A03-B3C6B8AD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A32-3573-4341-9594-BEDDF997F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christiansen.html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0" y="6216480"/>
            <a:ext cx="56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shed Pota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371600" y="228600"/>
            <a:ext cx="6095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EG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48769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2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hristiansen"/>
          <p:cNvPicPr/>
          <p:nvPr/>
        </p:nvPicPr>
        <p:blipFill>
          <a:blip r:embed="rId2"/>
          <a:stretch/>
        </p:blipFill>
        <p:spPr>
          <a:xfrm>
            <a:off x="0" y="0"/>
            <a:ext cx="2557440" cy="396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4038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e Kirk Christensen Invented the LEGO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39100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le Kirk Christense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0, 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hristian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hristiansen"/>
          <p:cNvPicPr/>
          <p:nvPr/>
        </p:nvPicPr>
        <p:blipFill>
          <a:blip r:embed="rId4"/>
          <a:srcRect l="34845" t="0" r="0" b="0"/>
          <a:stretch/>
        </p:blipFill>
        <p:spPr>
          <a:xfrm>
            <a:off x="4114800" y="762120"/>
            <a:ext cx="38480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Ole Kirk Christians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rk set up his business in 19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s and building blocks were one of the most successful projects in their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4 his factory burned down, It was rebuilt in 1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sen's son started working with his dad in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2 he died. His son took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LEGO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34 the world Lego was adopted the name of the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” means “I put together” In L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53 Lego started marketing complete plastic block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Lego sets were sold in the United States in 19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has sold sales totaling over $1.5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3:08:02Z</dcterms:created>
  <dc:creator>install</dc:creator>
  <dc:description/>
  <dc:language>en-US</dc:language>
  <cp:lastModifiedBy>install</cp:lastModifiedBy>
  <dcterms:modified xsi:type="dcterms:W3CDTF">2010-05-12T13:29:52Z</dcterms:modified>
  <cp:revision>6</cp:revision>
  <dc:subject/>
  <dc:title>Slide 1</dc:title>
</cp:coreProperties>
</file>